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66440" y="744120"/>
            <a:ext cx="52642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ff9933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9514-5684-4B16-95AC-F2A2A141CE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D1E3-3719-4176-8DCC-9102EAFF2A39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222C-F19C-4639-B7CB-85A48E3518E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6375-F4A2-4781-89DD-DFBB8247D1C2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ECAA-15F9-4D80-AA8B-46DD7D4C2B02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D9D0-0DA8-4BF9-845C-F1EA6E85F61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5106-A591-4BEB-81E3-EFB67C7FD5A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AA04-4D37-4F46-A679-AB990FE14477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1F97-6F83-4F89-94C2-974DCB7E5522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E5D7-965C-466D-A4DE-196DDDC6DCE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4899-A80F-4988-95B8-92B4FC580FB7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7E5B-1F0A-46FD-B0FB-BBF78099F9B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FB02-5626-4CDD-B463-1BC229280DAF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69C-8193-45BA-8D8B-514846A3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7040" y="2279160"/>
            <a:ext cx="90900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7040" y="4648320"/>
            <a:ext cx="90900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A25-7D3B-4C0F-AD29-70ECFD53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7040" y="22791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84720" y="22791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27040" y="464832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84720" y="464832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A1E-453C-41D8-ABDE-EA572DBB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7040" y="227916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00720" y="227916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74040" y="227916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27040" y="464832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00720" y="464832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674040" y="464832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BC4-A1F7-46B9-A0CE-8F58CD55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FEBF-B3E0-43D2-9482-1BFA1D04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27040" y="2279160"/>
            <a:ext cx="90900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E2DD-DC84-4811-91A3-1FDC4159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7040" y="2279160"/>
            <a:ext cx="9090000" cy="4535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ACB6-CA27-4949-9DBB-36E29364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7040" y="2279160"/>
            <a:ext cx="4435560" cy="4535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84720" y="2279160"/>
            <a:ext cx="4435560" cy="4535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DCA6-69AC-4100-900E-602081C9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2611-C455-478D-A497-8FF7B88D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2120" y="369360"/>
            <a:ext cx="9090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2595-4E68-40F7-95AD-3E821464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7040" y="22791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84720" y="2279160"/>
            <a:ext cx="4435560" cy="4535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040" y="464832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6293-E88D-45BA-B720-28E41E45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27040" y="2279160"/>
            <a:ext cx="90900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575-3ECD-4DA3-A6AF-C5ACCAA7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7040" y="2279160"/>
            <a:ext cx="4435560" cy="4535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4720" y="22791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84720" y="464832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1140-2BC5-4761-87E9-8ECABBD6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7040" y="22791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84720" y="22791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7040" y="4648320"/>
            <a:ext cx="90900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E0EA-C426-4AC1-84F1-FEC7AACE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7040" y="2279160"/>
            <a:ext cx="90900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040" y="4648320"/>
            <a:ext cx="90900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0916-257C-4CEA-BDF1-81C59E2B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7040" y="22791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4720" y="22791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27040" y="464832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84720" y="464832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644E-1E81-43F2-A84E-6DDE3FBA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7040" y="227916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00720" y="227916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74040" y="227916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040" y="464832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00720" y="464832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674040" y="464832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058B-5CD5-4B77-BF98-90CA72AC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7040" y="2279160"/>
            <a:ext cx="9090000" cy="4535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2D3-EEA2-4257-B913-DE0F16B8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7040" y="2279160"/>
            <a:ext cx="4435560" cy="4535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84720" y="2279160"/>
            <a:ext cx="4435560" cy="4535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A0C-2EE9-46B0-9B77-4453BD16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FFA-C9E7-47B0-9984-E7BE0B78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92120" y="369360"/>
            <a:ext cx="9090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66F-3EDC-4115-A66C-63717A99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7040" y="22791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84720" y="2279160"/>
            <a:ext cx="4435560" cy="4535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040" y="464832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2B3-5563-4331-832C-9408AF6F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7040" y="2279160"/>
            <a:ext cx="4435560" cy="4535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84720" y="22791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84720" y="464832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EC6-5AB0-44A7-98B8-0D2CED4F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7040" y="22791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84720" y="22791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7040" y="4648320"/>
            <a:ext cx="9090000" cy="2163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A3E2-A7C3-44DD-B5A9-87D4F5E4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55600" y="1789200"/>
            <a:ext cx="10292040" cy="5560920"/>
            <a:chOff x="255600" y="1789200"/>
            <a:chExt cx="10292040" cy="5560920"/>
          </a:xfrm>
        </p:grpSpPr>
        <p:grpSp>
          <p:nvGrpSpPr>
            <p:cNvPr id="1" name="Group 3"/>
            <p:cNvGrpSpPr/>
            <p:nvPr/>
          </p:nvGrpSpPr>
          <p:grpSpPr>
            <a:xfrm>
              <a:off x="255600" y="1789200"/>
              <a:ext cx="9713520" cy="165600"/>
              <a:chOff x="255600" y="1789200"/>
              <a:chExt cx="9713520" cy="1656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55600" y="1806480"/>
                <a:ext cx="9693360" cy="14832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8f8f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275760" y="1789200"/>
                <a:ext cx="9693360" cy="14832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9833760" y="5844960"/>
              <a:ext cx="713880" cy="1505160"/>
              <a:chOff x="9833760" y="5844960"/>
              <a:chExt cx="713880" cy="150516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9841320" y="5863680"/>
                <a:ext cx="706320" cy="1486440"/>
                <a:chOff x="9841320" y="5863680"/>
                <a:chExt cx="706320" cy="1486440"/>
              </a:xfrm>
            </p:grpSpPr>
            <p:sp>
              <p:nvSpPr>
                <p:cNvPr id="6" name="Freeform 8"/>
                <p:cNvSpPr/>
                <p:nvPr/>
              </p:nvSpPr>
              <p:spPr>
                <a:xfrm>
                  <a:off x="9841320" y="6242400"/>
                  <a:ext cx="626400" cy="110772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Oval 9"/>
                <p:cNvSpPr/>
                <p:nvPr/>
              </p:nvSpPr>
              <p:spPr>
                <a:xfrm rot="705000">
                  <a:off x="10029960" y="5878800"/>
                  <a:ext cx="185400" cy="343080"/>
                </a:xfrm>
                <a:prstGeom prst="ellipse">
                  <a:avLst/>
                </a:pr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Freeform 10"/>
                <p:cNvSpPr/>
                <p:nvPr/>
              </p:nvSpPr>
              <p:spPr>
                <a:xfrm>
                  <a:off x="10236240" y="6006240"/>
                  <a:ext cx="100080" cy="2358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Freeform 11"/>
                <p:cNvSpPr/>
                <p:nvPr/>
              </p:nvSpPr>
              <p:spPr>
                <a:xfrm>
                  <a:off x="10325160" y="6135840"/>
                  <a:ext cx="107640" cy="18720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Freeform 12"/>
                <p:cNvSpPr/>
                <p:nvPr/>
              </p:nvSpPr>
              <p:spPr>
                <a:xfrm>
                  <a:off x="10458720" y="6373800"/>
                  <a:ext cx="88920" cy="14508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10393920" y="6265440"/>
                  <a:ext cx="103680" cy="16236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" name="Group 14"/>
              <p:cNvGrpSpPr/>
              <p:nvPr/>
            </p:nvGrpSpPr>
            <p:grpSpPr>
              <a:xfrm>
                <a:off x="9833760" y="5844960"/>
                <a:ext cx="706320" cy="1486080"/>
                <a:chOff x="9833760" y="5844960"/>
                <a:chExt cx="706320" cy="1486080"/>
              </a:xfrm>
            </p:grpSpPr>
            <p:sp>
              <p:nvSpPr>
                <p:cNvPr id="13" name="Freeform 15"/>
                <p:cNvSpPr/>
                <p:nvPr/>
              </p:nvSpPr>
              <p:spPr>
                <a:xfrm>
                  <a:off x="9833760" y="6223680"/>
                  <a:ext cx="627120" cy="110736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 rot="705000">
                  <a:off x="10022400" y="5860080"/>
                  <a:ext cx="185400" cy="342720"/>
                </a:xfrm>
                <a:prstGeom prst="ellips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10229040" y="5987520"/>
                  <a:ext cx="100080" cy="2358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10317600" y="6117120"/>
                  <a:ext cx="107640" cy="18720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10451520" y="6355080"/>
                  <a:ext cx="88560" cy="14508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10386360" y="6246360"/>
                  <a:ext cx="103680" cy="16236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527040" y="2279160"/>
            <a:ext cx="9090000" cy="4535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 fontScale="95000"/>
          </a:bodyPr>
          <a:p>
            <a:pPr marL="370800" indent="-370800"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05320" indent="-3088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8040" indent="-24696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3" marL="1734120" indent="-24696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4" marL="2229120" indent="-24732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5" marL="2229120" indent="-24732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6" marL="2229120" indent="-24732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801360" y="6889680"/>
            <a:ext cx="2228760" cy="503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652920" y="6889680"/>
            <a:ext cx="3387600" cy="503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7662600" y="6889680"/>
            <a:ext cx="2228760" cy="503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marL="216000" indent="0" algn="r">
              <a:spcBef>
                <a:spcPts val="10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0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7C47B52-6B57-4BAA-A672-3783C7C2D186}" type="slidenum"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285840" y="3656160"/>
            <a:ext cx="9713520" cy="166320"/>
            <a:chOff x="285840" y="3656160"/>
            <a:chExt cx="9713520" cy="166320"/>
          </a:xfrm>
        </p:grpSpPr>
        <p:sp>
          <p:nvSpPr>
            <p:cNvPr id="61" name="Freeform 3"/>
            <p:cNvSpPr/>
            <p:nvPr/>
          </p:nvSpPr>
          <p:spPr>
            <a:xfrm>
              <a:off x="285840" y="3673440"/>
              <a:ext cx="9693000" cy="14904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306360" y="3656160"/>
              <a:ext cx="9693000" cy="14904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27040" y="2279160"/>
            <a:ext cx="9090000" cy="4535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 fontScale="95000"/>
          </a:bodyPr>
          <a:p>
            <a:pPr marL="370800" indent="-370800"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05320" indent="-30888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8040" indent="-24696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3" marL="1734120" indent="-24696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4" marL="2229120" indent="-24732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5" marL="2229120" indent="-24732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6" marL="2229120" indent="-247320"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801360" y="6889680"/>
            <a:ext cx="2228760" cy="503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652920" y="6889680"/>
            <a:ext cx="3387600" cy="503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662600" y="6889680"/>
            <a:ext cx="2228760" cy="503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spcBef>
                <a:spcPts val="10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10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A783845-F58D-483E-9664-94AAA1E54F73}" type="slidenum"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1763640"/>
            <a:ext cx="909000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AT" sz="5000" spc="-1" strike="noStrike">
                <a:solidFill>
                  <a:srgbClr val="ffff00"/>
                </a:solidFill>
                <a:latin typeface="Times New Roman"/>
              </a:rPr>
              <a:t>Persönlichkeitsstruktur</a:t>
            </a:r>
            <a:br>
              <a:rPr sz="5000"/>
            </a:br>
            <a:r>
              <a:rPr b="0" lang="de-AT" sz="5000" spc="-1" strike="noStrike">
                <a:solidFill>
                  <a:srgbClr val="ffff00"/>
                </a:solidFill>
                <a:latin typeface="Times New Roman"/>
              </a:rPr>
              <a:t>und Frömmigkeit</a:t>
            </a: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3440" y="4284720"/>
            <a:ext cx="7486560" cy="193176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AT" sz="3700" spc="-1" strike="noStrike">
                <a:solidFill>
                  <a:srgbClr val="ffffff"/>
                </a:solidFill>
                <a:latin typeface="Times New Roman"/>
              </a:rPr>
              <a:t>Wie sich das, was wir von unserer Persönlichkeitsstruktur her sind, auf unser geistliches Leben auswirkt…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10"/>
          <p:cNvSpPr/>
          <p:nvPr/>
        </p:nvSpPr>
        <p:spPr>
          <a:xfrm>
            <a:off x="5491080" y="1260360"/>
            <a:ext cx="0" cy="5303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2395440" y="4068720"/>
            <a:ext cx="585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6067440" y="612720"/>
            <a:ext cx="2374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ISTANZ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chizoid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elbstwerdu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Gemeinschaft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970360" y="6156360"/>
            <a:ext cx="23065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NÄHE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epressiv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Hingab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Selbstwerdung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3492360"/>
            <a:ext cx="2322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8226360" y="3421080"/>
            <a:ext cx="203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4408560" y="2124000"/>
            <a:ext cx="1449360" cy="2657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WordArt 3"/>
          <p:cNvSpPr txBox="1"/>
          <p:nvPr/>
        </p:nvSpPr>
        <p:spPr>
          <a:xfrm rot="18852000">
            <a:off x="1671480" y="1479240"/>
            <a:ext cx="21621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ehr Männ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7" name="WordArt 2"/>
          <p:cNvSpPr txBox="1"/>
          <p:nvPr/>
        </p:nvSpPr>
        <p:spPr>
          <a:xfrm rot="18779400">
            <a:off x="8380440" y="5643360"/>
            <a:ext cx="1504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ehr Frau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1114560" y="90360"/>
            <a:ext cx="4940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er Persönlichkeitsstrukt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89000" y="-257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feld 3"/>
          <p:cNvSpPr/>
          <p:nvPr/>
        </p:nvSpPr>
        <p:spPr>
          <a:xfrm>
            <a:off x="5787360" y="6564240"/>
            <a:ext cx="197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00"/>
                </a:solidFill>
                <a:latin typeface="Times New Roman"/>
              </a:rPr>
              <a:t>Gemeinscha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00"/>
                </a:solidFill>
                <a:latin typeface="Times New Roman"/>
              </a:rPr>
              <a:t>Bezieh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feld 4"/>
          <p:cNvSpPr/>
          <p:nvPr/>
        </p:nvSpPr>
        <p:spPr>
          <a:xfrm>
            <a:off x="3844440" y="770040"/>
            <a:ext cx="16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00"/>
                </a:solidFill>
                <a:latin typeface="Times New Roman"/>
              </a:rPr>
              <a:t>Sti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00"/>
                </a:solidFill>
                <a:latin typeface="Times New Roman"/>
              </a:rPr>
              <a:t>Erkennt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10"/>
          <p:cNvSpPr/>
          <p:nvPr/>
        </p:nvSpPr>
        <p:spPr>
          <a:xfrm>
            <a:off x="5491080" y="1260360"/>
            <a:ext cx="0" cy="5303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2395440" y="4068720"/>
            <a:ext cx="585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6067440" y="612720"/>
            <a:ext cx="2374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ISTANZ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chizoid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elbstwerdu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Gemeinschaft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2970360" y="6156360"/>
            <a:ext cx="23065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NÄHE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epressiv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Hingab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Selbstwerdung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3492360"/>
            <a:ext cx="2322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ORDNUNGS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zwanghaft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reue, Dau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Wande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8226360" y="3421080"/>
            <a:ext cx="203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REIHEITS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hysterisch“ Aufbru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Dauer, Treu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4408560" y="2124000"/>
            <a:ext cx="1449360" cy="2657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WordArt 3"/>
          <p:cNvSpPr txBox="1"/>
          <p:nvPr/>
        </p:nvSpPr>
        <p:spPr>
          <a:xfrm rot="18852000">
            <a:off x="1671480" y="1479240"/>
            <a:ext cx="21621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ehr Männ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0" name="WordArt 2"/>
          <p:cNvSpPr txBox="1"/>
          <p:nvPr/>
        </p:nvSpPr>
        <p:spPr>
          <a:xfrm rot="18779400">
            <a:off x="8380440" y="5643360"/>
            <a:ext cx="1504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ehr Frau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1098720" y="201600"/>
            <a:ext cx="4940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er Persönlichkeitsstrukt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189000" y="-257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feld 1"/>
          <p:cNvSpPr/>
          <p:nvPr/>
        </p:nvSpPr>
        <p:spPr>
          <a:xfrm>
            <a:off x="185040" y="50418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00"/>
                </a:solidFill>
                <a:latin typeface="Times New Roman"/>
              </a:rPr>
              <a:t>Tra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00"/>
                </a:solidFill>
                <a:latin typeface="Times New Roman"/>
              </a:rPr>
              <a:t>Gese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feld 2"/>
          <p:cNvSpPr/>
          <p:nvPr/>
        </p:nvSpPr>
        <p:spPr>
          <a:xfrm>
            <a:off x="8369280" y="487692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00"/>
                </a:solidFill>
                <a:latin typeface="Times New Roman"/>
              </a:rPr>
              <a:t>Wan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00"/>
                </a:solidFill>
                <a:latin typeface="Times New Roman"/>
              </a:rPr>
              <a:t>Gn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feld 3"/>
          <p:cNvSpPr/>
          <p:nvPr/>
        </p:nvSpPr>
        <p:spPr>
          <a:xfrm>
            <a:off x="5787360" y="6564240"/>
            <a:ext cx="197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00"/>
                </a:solidFill>
                <a:latin typeface="Times New Roman"/>
              </a:rPr>
              <a:t>Gemeinscha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00"/>
                </a:solidFill>
                <a:latin typeface="Times New Roman"/>
              </a:rPr>
              <a:t>Bezieh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feld 4"/>
          <p:cNvSpPr/>
          <p:nvPr/>
        </p:nvSpPr>
        <p:spPr>
          <a:xfrm>
            <a:off x="3844440" y="770040"/>
            <a:ext cx="16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00"/>
                </a:solidFill>
                <a:latin typeface="Times New Roman"/>
              </a:rPr>
              <a:t>Sti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00"/>
                </a:solidFill>
                <a:latin typeface="Times New Roman"/>
              </a:rPr>
              <a:t>Erkennt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6750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5000" spc="-1" strike="noStrike">
                <a:solidFill>
                  <a:srgbClr val="393939"/>
                </a:solidFill>
                <a:latin typeface="Times New Roman"/>
              </a:rPr>
              <a:t>Anmerkungen</a:t>
            </a: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2360" y="1332000"/>
            <a:ext cx="9623520" cy="59054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0600" indent="-3906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lle vier Strukturen sind gleichwertig – „anders“ ist nicht gleich „schlechter“. Kein „Typ“ ist „heiliger“ als der andere. Kein „Typ“ ist in sich schon „heilig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ine Struktur ist vorherrschend – wir haben aber auch Anteil an den ander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Jede Struktur ist Gabe und Last, Stärke und Schwäch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Gott kann sich durch jede Struktur verherrlichen.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Der andere ist Ergänzung – nicht Bedrohung … er muss nicht sein wie ich … er bringt etwas ein, das ich nicht draufhabe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Heiligung verändert nicht die Grundstruktur – macht sie aber dienstbar, Christus verfügb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Jeder nimmt seine Struktur mit in den Glauben hine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Jede Struktur hat Auswirkungen auf das geistliche Leb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ie größte Gefahr: Man macht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die eigene Struktur zum Gesetz für ander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– der andere soll sein wie ich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AT" sz="5000" spc="-1" strike="noStrike">
                <a:solidFill>
                  <a:srgbClr val="ffc000"/>
                </a:solidFill>
                <a:latin typeface="Times New Roman"/>
              </a:rPr>
              <a:t>In welche Richtung soll man den Reifungsprozess denken?</a:t>
            </a:r>
            <a:endParaRPr b="0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26680" y="2279160"/>
            <a:ext cx="4468680" cy="4535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0600" indent="-390600">
              <a:lnSpc>
                <a:spcPct val="80000"/>
              </a:lnSpc>
              <a:spcBef>
                <a:spcPts val="649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Times New Roman"/>
              </a:rPr>
              <a:t>Soll man sich eher in „Richtung Mitte“ entwickeln – also möglichst Anteile an allen Strukturen entwickeln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649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Times New Roman"/>
              </a:rPr>
              <a:t>(Und: muss man sich das Wesen Jesu so vorstellen?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649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Times New Roman"/>
              </a:rPr>
              <a:t>Oder geht es vor allem darum, </a:t>
            </a:r>
            <a:r>
              <a:rPr b="1" lang="de-AT" sz="2600" spc="-1" strike="noStrike">
                <a:solidFill>
                  <a:srgbClr val="ffffff"/>
                </a:solidFill>
                <a:latin typeface="Times New Roman"/>
              </a:rPr>
              <a:t>die „bad spots“, die negativen Seiten </a:t>
            </a:r>
            <a:r>
              <a:rPr b="0" lang="de-AT" sz="2600" spc="-1" strike="noStrike">
                <a:solidFill>
                  <a:srgbClr val="ffffff"/>
                </a:solidFill>
                <a:latin typeface="Times New Roman"/>
              </a:rPr>
              <a:t>/  die problematischen Züge einer Struktur durch Heiligung zu überwinden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Gerade Verbindung 5"/>
          <p:cNvSpPr/>
          <p:nvPr/>
        </p:nvSpPr>
        <p:spPr>
          <a:xfrm>
            <a:off x="7218360" y="2989440"/>
            <a:ext cx="0" cy="32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Gerade Verbindung 8"/>
          <p:cNvSpPr/>
          <p:nvPr/>
        </p:nvSpPr>
        <p:spPr>
          <a:xfrm>
            <a:off x="5634000" y="4518000"/>
            <a:ext cx="3173400" cy="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Ellipse 14"/>
          <p:cNvSpPr/>
          <p:nvPr/>
        </p:nvSpPr>
        <p:spPr>
          <a:xfrm>
            <a:off x="6499080" y="3852720"/>
            <a:ext cx="1440000" cy="1368720"/>
          </a:xfrm>
          <a:prstGeom prst="ellipse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10"/>
          <p:cNvSpPr/>
          <p:nvPr/>
        </p:nvSpPr>
        <p:spPr>
          <a:xfrm>
            <a:off x="5491080" y="1260360"/>
            <a:ext cx="0" cy="5303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2395440" y="4068720"/>
            <a:ext cx="585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6067440" y="612720"/>
            <a:ext cx="2374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ISTANZ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chizoid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elbstwerdu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Gemeinschaft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2970360" y="6156360"/>
            <a:ext cx="23065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NÄHE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epressiv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Hingab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Selbstwerdung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3492360"/>
            <a:ext cx="2322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ORDNUNGS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zwanghaft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reue, Dau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Wande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8226360" y="3421080"/>
            <a:ext cx="203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REIHEITS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hysterisch“ Aufbru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Dauer, Treu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4408560" y="2124000"/>
            <a:ext cx="1449360" cy="2657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WordArt 3"/>
          <p:cNvSpPr txBox="1"/>
          <p:nvPr/>
        </p:nvSpPr>
        <p:spPr>
          <a:xfrm rot="18852000">
            <a:off x="1671480" y="1479240"/>
            <a:ext cx="21621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ehr Männ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02" name="WordArt 2"/>
          <p:cNvSpPr txBox="1"/>
          <p:nvPr/>
        </p:nvSpPr>
        <p:spPr>
          <a:xfrm rot="18779400">
            <a:off x="8380440" y="5643360"/>
            <a:ext cx="1504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ehr Frau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1098720" y="201600"/>
            <a:ext cx="4940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er Persönlichkeitsstrukt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189000" y="-257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Ellipse 1"/>
          <p:cNvSpPr/>
          <p:nvPr/>
        </p:nvSpPr>
        <p:spPr>
          <a:xfrm>
            <a:off x="4770360" y="2651040"/>
            <a:ext cx="181080" cy="144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Ellipse 13"/>
          <p:cNvSpPr/>
          <p:nvPr/>
        </p:nvSpPr>
        <p:spPr>
          <a:xfrm>
            <a:off x="5122800" y="3205080"/>
            <a:ext cx="18108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Ellipse 14"/>
          <p:cNvSpPr/>
          <p:nvPr/>
        </p:nvSpPr>
        <p:spPr>
          <a:xfrm>
            <a:off x="4770360" y="3840120"/>
            <a:ext cx="181080" cy="144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Ellipse 15"/>
          <p:cNvSpPr/>
          <p:nvPr/>
        </p:nvSpPr>
        <p:spPr>
          <a:xfrm>
            <a:off x="4952880" y="4429080"/>
            <a:ext cx="17964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Ellipse 16"/>
          <p:cNvSpPr/>
          <p:nvPr/>
        </p:nvSpPr>
        <p:spPr>
          <a:xfrm>
            <a:off x="5141880" y="2475000"/>
            <a:ext cx="17928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Ellipse 17"/>
          <p:cNvSpPr/>
          <p:nvPr/>
        </p:nvSpPr>
        <p:spPr>
          <a:xfrm>
            <a:off x="5076720" y="2922480"/>
            <a:ext cx="181080" cy="144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Ellipse 18"/>
          <p:cNvSpPr/>
          <p:nvPr/>
        </p:nvSpPr>
        <p:spPr>
          <a:xfrm>
            <a:off x="5446800" y="2779560"/>
            <a:ext cx="17928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Ellipse 19"/>
          <p:cNvSpPr/>
          <p:nvPr/>
        </p:nvSpPr>
        <p:spPr>
          <a:xfrm>
            <a:off x="4616280" y="3205080"/>
            <a:ext cx="17964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2000" y="323640"/>
            <a:ext cx="10531440" cy="957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4600" spc="-1" strike="noStrike">
                <a:solidFill>
                  <a:srgbClr val="393939"/>
                </a:solidFill>
                <a:latin typeface="Times New Roman"/>
              </a:rPr>
              <a:t>Auswirkungen auf das geistliche Leben</a:t>
            </a:r>
            <a:endParaRPr b="0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7218360" y="2556000"/>
            <a:ext cx="2935440" cy="647640"/>
          </a:xfrm>
          <a:prstGeom prst="rect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Bevorzugte Form der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Gemeinschaf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7723080" y="3564000"/>
            <a:ext cx="2376720" cy="647640"/>
          </a:xfrm>
          <a:prstGeom prst="rect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Seelsorger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en man wähl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8083440" y="4572000"/>
            <a:ext cx="1943280" cy="431640"/>
          </a:xfrm>
          <a:prstGeom prst="rect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erkündigu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7578720" y="5364000"/>
            <a:ext cx="2016000" cy="719280"/>
          </a:xfrm>
          <a:prstGeom prst="rect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Seelsorger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er man ist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1243080" y="3852720"/>
            <a:ext cx="2663640" cy="432000"/>
          </a:xfrm>
          <a:prstGeom prst="rect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ersönlichkeitsty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1243080" y="1763640"/>
            <a:ext cx="1890720" cy="762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Heiliger Gei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Wort Got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7420320" y="6488280"/>
            <a:ext cx="2282040" cy="426960"/>
          </a:xfrm>
          <a:prstGeom prst="rect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Zeugnis, Miss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8"/>
          <p:cNvSpPr/>
          <p:nvPr/>
        </p:nvSpPr>
        <p:spPr>
          <a:xfrm flipV="1">
            <a:off x="1170000" y="2412720"/>
            <a:ext cx="3672000" cy="13683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9"/>
          <p:cNvSpPr/>
          <p:nvPr/>
        </p:nvSpPr>
        <p:spPr>
          <a:xfrm flipV="1">
            <a:off x="1098720" y="2268360"/>
            <a:ext cx="3671640" cy="13687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7507440" y="1836720"/>
            <a:ext cx="223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Frömmigkei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23"/>
          <p:cNvSpPr/>
          <p:nvPr/>
        </p:nvSpPr>
        <p:spPr>
          <a:xfrm>
            <a:off x="7507440" y="1836720"/>
            <a:ext cx="1941480" cy="431640"/>
          </a:xfrm>
          <a:prstGeom prst="rect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7631640" y="1806480"/>
            <a:ext cx="171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Frömmigke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26"/>
          <p:cNvSpPr/>
          <p:nvPr/>
        </p:nvSpPr>
        <p:spPr>
          <a:xfrm flipV="1">
            <a:off x="3906720" y="2123640"/>
            <a:ext cx="3386160" cy="151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27"/>
          <p:cNvSpPr/>
          <p:nvPr/>
        </p:nvSpPr>
        <p:spPr>
          <a:xfrm flipV="1">
            <a:off x="4122720" y="2916360"/>
            <a:ext cx="2952720" cy="1008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28"/>
          <p:cNvSpPr/>
          <p:nvPr/>
        </p:nvSpPr>
        <p:spPr>
          <a:xfrm flipV="1">
            <a:off x="4122720" y="3924360"/>
            <a:ext cx="330984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29"/>
          <p:cNvSpPr/>
          <p:nvPr/>
        </p:nvSpPr>
        <p:spPr>
          <a:xfrm>
            <a:off x="4122720" y="4356000"/>
            <a:ext cx="3745080" cy="433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30"/>
          <p:cNvSpPr/>
          <p:nvPr/>
        </p:nvSpPr>
        <p:spPr>
          <a:xfrm>
            <a:off x="4194000" y="4645080"/>
            <a:ext cx="3098880" cy="1008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4122720" y="4861080"/>
            <a:ext cx="3095640" cy="1800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1820160" y="4500720"/>
            <a:ext cx="143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ILTER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2120" y="124560"/>
            <a:ext cx="9090000" cy="8672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de-AT" sz="5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27040" y="1188720"/>
            <a:ext cx="9090000" cy="6119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0600" indent="-390600">
              <a:lnSpc>
                <a:spcPct val="80000"/>
              </a:lnSpc>
              <a:spcBef>
                <a:spcPts val="726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AT" sz="2900" spc="-1" strike="noStrike">
                <a:solidFill>
                  <a:srgbClr val="ffffff"/>
                </a:solidFill>
                <a:latin typeface="Times New Roman"/>
              </a:rPr>
              <a:t>Was bedeutet eigentlich „Frömmigkeit“?</a:t>
            </a:r>
            <a:br>
              <a:rPr sz="2900"/>
            </a:br>
            <a:r>
              <a:rPr b="0" lang="de-AT" sz="2900" spc="-1" strike="noStrike">
                <a:solidFill>
                  <a:srgbClr val="ffffff"/>
                </a:solidFill>
                <a:latin typeface="Times New Roman"/>
              </a:rPr>
              <a:t>(von ahd. frawm = tüchtig, trefflich, tauglich – jemand, der mit einer Sache zurechtkommt, sie gut bewältigt…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26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AT" sz="2900" spc="-1" strike="noStrike">
                <a:solidFill>
                  <a:srgbClr val="ffffff"/>
                </a:solidFill>
                <a:latin typeface="Times New Roman"/>
              </a:rPr>
              <a:t>Es handelt sich um seelische Strukturen – nicht um Krankheitsbilder (Störungen)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26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AT" sz="2900" spc="-1" strike="noStrike">
                <a:solidFill>
                  <a:srgbClr val="ffffff"/>
                </a:solidFill>
                <a:latin typeface="Times New Roman"/>
              </a:rPr>
              <a:t>Erst im Extrem sind bestimmte Ausprägungen krankhaft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26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AT" sz="2900" spc="-1" strike="noStrike">
                <a:solidFill>
                  <a:srgbClr val="ffffff"/>
                </a:solidFill>
                <a:latin typeface="Times New Roman"/>
              </a:rPr>
              <a:t>Es besteht allerdings immer die Gefahr, dass </a:t>
            </a:r>
            <a:r>
              <a:rPr b="1" lang="de-AT" sz="2900" spc="-1" strike="noStrike">
                <a:solidFill>
                  <a:srgbClr val="ffffff"/>
                </a:solidFill>
                <a:latin typeface="Times New Roman"/>
              </a:rPr>
              <a:t>das</a:t>
            </a:r>
            <a:r>
              <a:rPr b="0" lang="de-AT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AT" sz="2900" spc="-1" strike="noStrike">
                <a:solidFill>
                  <a:srgbClr val="ffffff"/>
                </a:solidFill>
                <a:latin typeface="Times New Roman"/>
              </a:rPr>
              <a:t>Fleisch</a:t>
            </a:r>
            <a:r>
              <a:rPr b="0" lang="de-AT" sz="2900" spc="-1" strike="noStrike">
                <a:solidFill>
                  <a:srgbClr val="ffffff"/>
                </a:solidFill>
                <a:latin typeface="Times New Roman"/>
              </a:rPr>
              <a:t> eine Struktur missbraucht…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26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AT" sz="2900" spc="-1" strike="noStrike">
                <a:solidFill>
                  <a:srgbClr val="ffffff"/>
                </a:solidFill>
                <a:latin typeface="Times New Roman"/>
              </a:rPr>
              <a:t>Alles Führen und Leiten wird übrigens auch von der jeweiligen Persönlichkeitsstruktur mitbestimmt (Erbschicksal und Lernschicksal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26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AT" sz="2900" spc="-1" strike="noStrike">
                <a:solidFill>
                  <a:srgbClr val="ffffff"/>
                </a:solidFill>
                <a:latin typeface="Times New Roman"/>
              </a:rPr>
              <a:t>(Es gibt noch andere Modelle;  </a:t>
            </a:r>
            <a:br>
              <a:rPr sz="2900"/>
            </a:br>
            <a:r>
              <a:rPr b="0" lang="de-AT" sz="2900" spc="-1" strike="noStrike">
                <a:solidFill>
                  <a:srgbClr val="ffffff"/>
                </a:solidFill>
                <a:latin typeface="Times New Roman"/>
              </a:rPr>
              <a:t>das Folgende findet sich bei Reinhold Ruthe, Typen und Temperamente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10"/>
          <p:cNvSpPr/>
          <p:nvPr/>
        </p:nvSpPr>
        <p:spPr>
          <a:xfrm>
            <a:off x="5491080" y="1260360"/>
            <a:ext cx="0" cy="5303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2395440" y="4068720"/>
            <a:ext cx="585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067440" y="612720"/>
            <a:ext cx="2374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ISTANZ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chizoid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elbstwerdu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Gemeinschaft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970360" y="6156360"/>
            <a:ext cx="23065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NÄHE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epressiv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Hingab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Selbstwerdung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3492360"/>
            <a:ext cx="2322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ORDNUNGS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zwanghaft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reue, Dau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Wande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8226360" y="3421080"/>
            <a:ext cx="203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REIHEITS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hysterisch“ Aufbru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Dauer, Treu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4408560" y="2124000"/>
            <a:ext cx="1449360" cy="2657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WordArt 3"/>
          <p:cNvSpPr txBox="1"/>
          <p:nvPr/>
        </p:nvSpPr>
        <p:spPr>
          <a:xfrm rot="18852000">
            <a:off x="1671480" y="1479240"/>
            <a:ext cx="21621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ehr Männ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3" name="WordArt 2"/>
          <p:cNvSpPr txBox="1"/>
          <p:nvPr/>
        </p:nvSpPr>
        <p:spPr>
          <a:xfrm rot="18779400">
            <a:off x="8380440" y="5643360"/>
            <a:ext cx="1504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ehr Frau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1098720" y="201600"/>
            <a:ext cx="4940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er Persönlichkeitsstrukt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189000" y="-257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10"/>
          <p:cNvSpPr/>
          <p:nvPr/>
        </p:nvSpPr>
        <p:spPr>
          <a:xfrm>
            <a:off x="5491080" y="109440"/>
            <a:ext cx="0" cy="6454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395440" y="4068720"/>
            <a:ext cx="585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067440" y="612720"/>
            <a:ext cx="2374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ISTANZ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chizoid“ – schizopr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970360" y="6156360"/>
            <a:ext cx="23065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NÄHE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epressiv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Hingab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Selbstwerdung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3492360"/>
            <a:ext cx="2322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ORDNUNGS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zwanghaft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reue, Dau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Wande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8226360" y="3421080"/>
            <a:ext cx="203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REIHEITS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hysterisch“ Aufbru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Dauer, Treu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4408560" y="2124000"/>
            <a:ext cx="1449360" cy="2657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WordArt 3"/>
          <p:cNvSpPr txBox="1"/>
          <p:nvPr/>
        </p:nvSpPr>
        <p:spPr>
          <a:xfrm rot="18852000">
            <a:off x="1671480" y="1479240"/>
            <a:ext cx="21621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ehr Männ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4" name="WordArt 2"/>
          <p:cNvSpPr txBox="1"/>
          <p:nvPr/>
        </p:nvSpPr>
        <p:spPr>
          <a:xfrm rot="18779400">
            <a:off x="8380440" y="5643360"/>
            <a:ext cx="1504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ehr Frau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-14400" y="-65160"/>
            <a:ext cx="52768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rst wenn eine Struktur einseitig und extrem gelebt wird, wird sie problematis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189000" y="-257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Ellipse 1"/>
          <p:cNvSpPr/>
          <p:nvPr/>
        </p:nvSpPr>
        <p:spPr>
          <a:xfrm>
            <a:off x="2587680" y="3852720"/>
            <a:ext cx="490320" cy="432000"/>
          </a:xfrm>
          <a:prstGeom prst="ellipse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2120" y="369720"/>
            <a:ext cx="9090000" cy="890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600" spc="-1" strike="noStrike">
                <a:solidFill>
                  <a:srgbClr val="393939"/>
                </a:solidFill>
                <a:latin typeface="Times New Roman"/>
              </a:rPr>
              <a:t>Der Distanz-Typ („schizoid“)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7040" y="1404720"/>
            <a:ext cx="9090000" cy="57862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0600" indent="-390600">
              <a:lnSpc>
                <a:spcPct val="80000"/>
              </a:lnSpc>
              <a:spcBef>
                <a:spcPts val="77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Times New Roman"/>
              </a:rPr>
              <a:t>Unabhängig („abgespalten“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7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Times New Roman"/>
              </a:rPr>
              <a:t>Angst vor der Vereinnahmung („verschlungen werden“, hat Angst vor dem „Klammern“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7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Times New Roman"/>
              </a:rPr>
              <a:t>Einzelgänger – Stille liegt ihm besonders, „Entdeckungen in der Einsamkeit“ – geistliches Kernthema „Erkenntnis“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7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Times New Roman"/>
              </a:rPr>
              <a:t>Sachlich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7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Times New Roman"/>
              </a:rPr>
              <a:t>Küh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7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Times New Roman"/>
              </a:rPr>
              <a:t>Realistisch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7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3100" spc="-1" strike="noStrike">
                <a:solidFill>
                  <a:srgbClr val="ffffff"/>
                </a:solidFill>
                <a:latin typeface="Times New Roman"/>
              </a:rPr>
              <a:t>Eremit“ (einsamer Wolf) – macht geistliche Dinge am liebsten mit Gott alleine aus – ist oft aber auch Pionier, wenig abhängig von einem Team – aber eben auch kein „Teamplayer“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9622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600" spc="-1" strike="noStrike">
                <a:solidFill>
                  <a:srgbClr val="393939"/>
                </a:solidFill>
                <a:latin typeface="Times New Roman"/>
              </a:rPr>
              <a:t>Der Nähe-Typ („depressiv“)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3640" y="1980720"/>
            <a:ext cx="9090000" cy="54104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Abhängig von anderen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Angst vor Verlust von Nähe / Angst vor dem Alleinsein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Sozialer Typ – lebt Beziehung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Aufopferungsberei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Gefühlsstark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Idealistisch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Gemeinschafts-Mensch“ – erfährt Gott vor allem in der Gemeinschaf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2120" y="369720"/>
            <a:ext cx="9090000" cy="81936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600" spc="-1" strike="noStrike">
                <a:solidFill>
                  <a:srgbClr val="393939"/>
                </a:solidFill>
                <a:latin typeface="Times New Roman"/>
              </a:rPr>
              <a:t>Der Ordnungs-Typ („zwanghaft“)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2360" y="1547280"/>
            <a:ext cx="9090000" cy="54738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 fontScale="99000"/>
          </a:bodyPr>
          <a:p>
            <a:pPr marL="386640" indent="-386640">
              <a:lnSpc>
                <a:spcPct val="90000"/>
              </a:lnSpc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Ordnungsmensch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86640" indent="-386640">
              <a:lnSpc>
                <a:spcPct val="90000"/>
              </a:lnSpc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Angst vor Wandel und Veränderung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86640" indent="-386640">
              <a:lnSpc>
                <a:spcPct val="90000"/>
              </a:lnSpc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Neigt zur Zwanghaftigkei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86640" indent="-386640">
              <a:lnSpc>
                <a:spcPct val="90000"/>
              </a:lnSpc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Neigt zur Gesetzlichkeit – oft sehr streng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86640" indent="-386640">
              <a:lnSpc>
                <a:spcPct val="90000"/>
              </a:lnSpc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Beständig, treu, liebt und braucht Strukturen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86640" indent="-386640">
              <a:lnSpc>
                <a:spcPct val="90000"/>
              </a:lnSpc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Unflexibel, kann stur sein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86640" indent="-386640">
              <a:lnSpc>
                <a:spcPct val="90000"/>
              </a:lnSpc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Grüblerisch („Mache ich es richtig?“)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86640" indent="-386640">
              <a:lnSpc>
                <a:spcPct val="90000"/>
              </a:lnSpc>
              <a:spcBef>
                <a:spcPts val="924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3700" spc="-1" strike="noStrike">
                <a:solidFill>
                  <a:srgbClr val="ffffff"/>
                </a:solidFill>
                <a:latin typeface="Times New Roman"/>
              </a:rPr>
              <a:t>Traditionalist“ (konservativ) – geistliches Kernthema ist oft „das Gesetz“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2120" y="369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600" spc="-1" strike="noStrike">
                <a:solidFill>
                  <a:srgbClr val="393939"/>
                </a:solidFill>
                <a:latin typeface="Times New Roman"/>
              </a:rPr>
              <a:t>Der Freiheits-Typ („hysterisch“)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7040" y="1620720"/>
            <a:ext cx="9090000" cy="5616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0600" indent="-390600">
              <a:lnSpc>
                <a:spcPct val="80000"/>
              </a:lnSpc>
              <a:spcBef>
                <a:spcPts val="850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Times New Roman"/>
              </a:rPr>
              <a:t>Als Mensch im Mittelpunkt, entwickelt am ehesten narzisstische Züge – ist aber oft auch sehr gewinnend…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850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Times New Roman"/>
              </a:rPr>
              <a:t>Angst vor Festlegung, meidet Verbindlichkei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850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Times New Roman"/>
              </a:rPr>
              <a:t>Freiheitsliebend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850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Times New Roman"/>
              </a:rPr>
              <a:t>Wandlungsfähig – lebt im Aufbruch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850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Times New Roman"/>
              </a:rPr>
              <a:t>Großzügig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850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Times New Roman"/>
              </a:rPr>
              <a:t>Unbeständig, unverbindlich, „flatterhaft“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850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Times New Roman"/>
              </a:rPr>
              <a:t>Sorglo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850"/>
              </a:spcBef>
              <a:buClr>
                <a:srgbClr val="ff9933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3400" spc="-1" strike="noStrike">
                <a:solidFill>
                  <a:srgbClr val="ffffff"/>
                </a:solidFill>
                <a:latin typeface="Times New Roman"/>
              </a:rPr>
              <a:t>Visionär“ (Pionier) – geistliches Kernthema ist oft Freude und Gnad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0"/>
          <p:cNvSpPr/>
          <p:nvPr/>
        </p:nvSpPr>
        <p:spPr>
          <a:xfrm>
            <a:off x="5491080" y="1260360"/>
            <a:ext cx="0" cy="5303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2395440" y="4068720"/>
            <a:ext cx="585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067440" y="612720"/>
            <a:ext cx="2374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970360" y="6192720"/>
            <a:ext cx="23065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3492360"/>
            <a:ext cx="2322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ORDNUNGS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zwanghaft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reue, Dau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Wande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8226360" y="3421080"/>
            <a:ext cx="203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REIHEITSTY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hysterisch“ Aufbru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Dauer, Treu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4408560" y="2124000"/>
            <a:ext cx="1449360" cy="2657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WordArt 3"/>
          <p:cNvSpPr txBox="1"/>
          <p:nvPr/>
        </p:nvSpPr>
        <p:spPr>
          <a:xfrm rot="18852000">
            <a:off x="1671480" y="1479240"/>
            <a:ext cx="21621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ehr Männ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54" name="WordArt 2"/>
          <p:cNvSpPr txBox="1"/>
          <p:nvPr/>
        </p:nvSpPr>
        <p:spPr>
          <a:xfrm rot="18779400">
            <a:off x="8380440" y="5643360"/>
            <a:ext cx="1504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ehr Frau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1098720" y="-72360"/>
            <a:ext cx="55432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er Persönlichkeitsstruktu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189000" y="-257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feld 1"/>
          <p:cNvSpPr/>
          <p:nvPr/>
        </p:nvSpPr>
        <p:spPr>
          <a:xfrm>
            <a:off x="185040" y="50418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00"/>
                </a:solidFill>
                <a:latin typeface="Times New Roman"/>
              </a:rPr>
              <a:t>Tra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00"/>
                </a:solidFill>
                <a:latin typeface="Times New Roman"/>
              </a:rPr>
              <a:t>Gese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feld 2"/>
          <p:cNvSpPr/>
          <p:nvPr/>
        </p:nvSpPr>
        <p:spPr>
          <a:xfrm>
            <a:off x="8369280" y="487692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00"/>
                </a:solidFill>
                <a:latin typeface="Times New Roman"/>
              </a:rPr>
              <a:t>Wan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00"/>
                </a:solidFill>
                <a:latin typeface="Times New Roman"/>
              </a:rPr>
              <a:t>Gn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7:50:47Z</dcterms:created>
  <dc:creator>Kurt Schneck</dc:creator>
  <dc:description/>
  <dc:language>en-US</dc:language>
  <cp:lastModifiedBy>Kurt Schneck</cp:lastModifiedBy>
  <cp:lastPrinted>2018-10-04T15:47:44Z</cp:lastPrinted>
  <dcterms:modified xsi:type="dcterms:W3CDTF">2025-06-14T06:41:39Z</dcterms:modified>
  <cp:revision>57</cp:revision>
  <dc:subject/>
  <dc:title>Folie 1</dc:title>
</cp:coreProperties>
</file>